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59E9-F59C-4A4C-8081-ACBF519D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27CA-7134-42BC-A54C-68B7C65DB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E4E-E314-4F09-B2C0-9AFB73962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D96D-186F-4CBB-8281-B7CBDFBA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30F6A-AD6B-41D8-AA8F-F4C2F508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2123-F37E-4AEC-BB96-0DB574A9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5D40-5F70-4789-8A1D-97877DAE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035A-BDC0-40FC-B9A8-C26A0BD4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AB57-A156-4F9E-A2D0-A610F695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201A-1D67-427B-94E2-38CA5FED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053E-3989-46C8-B3D0-E6803851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4DB3-52D6-4BD1-9599-14E839D0B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77F6-02F2-4B75-9D36-4FCBDDE2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20D8-DBA2-44E8-88C7-D0313121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420D-1D55-431D-B16A-DDEBDA27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D877-09F2-431F-8C7A-1CAD080A8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B05B-372B-4294-A21C-5D3226266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96F86-299B-480B-9EA9-2BFA1193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74B1D-96AE-4AC7-A8B2-4DB9654D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1156-2039-42FA-B618-043BD069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C1EAC-8F9C-4086-A14F-80E7BCCB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5D23F-E5F6-40C8-A98E-37B82725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3972-BC2A-4547-9849-16630DB5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9F983-893F-43C1-A422-85391F29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12F3F-2E1D-4DFA-8625-4B13A0FA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81C1E-1FA4-4450-860F-BB0BA2EA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BD230-12DF-4B64-B28B-4E8096A8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9B64-24A2-462B-82C5-352F8B4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00812-932D-40A5-80C9-46FE7C94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4483-25EC-476C-B006-6BBE12DD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895-2251-4FD3-A7A4-5AD44332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5C37-3519-436C-BF1D-F218A026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2732-76AD-497C-83C4-416DB7E5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1F27-05EF-422B-BD52-18769DB3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A231-4682-454C-B482-25A08FA1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415F-F83B-4F26-B1FF-2FC1A1E6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36E1-5D88-4DA2-8513-0809FDFB5D6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D082-F12B-4EC1-B278-6F815C1B28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02EE-0270-401C-9A22-116964F5B64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File:Guru_Mindmap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2"/>
          <a:stretch/>
        </p:blipFill>
        <p:spPr>
          <a:xfrm>
            <a:off x="530280" y="1195560"/>
            <a:ext cx="7864560" cy="11570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3160" y="2514600"/>
            <a:ext cx="7854840" cy="33242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People can become creative if they give “ a kind of permission to be ourselves, to fantasy, to let loose, and to be crazy, privately. (Every new idea looks crazy at first)…. A creative person has a fusion of primary and secondary processes; both conscious and unconscious; both of deeper self and of conscious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(De Bono 197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0" y="533160"/>
            <a:ext cx="4114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18160" indent="-218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Find connec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Use of lines, colours, arrows, and branches can be used to indicate relationships between the ideas generated the mind ma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18160" indent="-21816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Mind maps help organize the information, once all the ideas and visual information are on the page you can start finding further connections and start creating new ideas or ima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4186080" cy="3267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Example Mind Map"/>
          <p:cNvPicPr/>
          <p:nvPr/>
        </p:nvPicPr>
        <p:blipFill>
          <a:blip r:embed="rId3"/>
          <a:stretch/>
        </p:blipFill>
        <p:spPr>
          <a:xfrm>
            <a:off x="304920" y="3581280"/>
            <a:ext cx="41148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7621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re are some simple rules for mind mapping: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just key words, or wherever possible imag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tart from the center of the page and work ou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raw quickly on unlined paper without pausing, judging or edi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Make the  center  a clear and strong visual image that depicts the general theme of the ma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raw Primary Branches from the Central Im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reate sub-centers for sub-them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ut key words </a:t>
            </a:r>
            <a:r>
              <a:rPr b="1" lang="en-CA" sz="2400" spc="-1" strike="noStrike">
                <a:solidFill>
                  <a:srgbClr val="000000"/>
                </a:solidFill>
                <a:latin typeface="Constantia"/>
              </a:rPr>
              <a:t>on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lines. This reinforces structure of no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gin secondary branches, adding additional lines and wor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rint rather than write in script. It makes them more readable and memorab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symbols, drawings, and colours to add life to your mind map. Use color to depict themes, associations and to make things stand out. Anything that </a:t>
            </a:r>
            <a:r>
              <a:rPr b="1" lang="en-CA" sz="2400" spc="-1" strike="noStrike">
                <a:solidFill>
                  <a:srgbClr val="000000"/>
                </a:solidFill>
                <a:latin typeface="Constantia"/>
              </a:rPr>
              <a:t>stands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Constantia"/>
              </a:rPr>
              <a:t>out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on the page will stand out in your min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 bold in your use of colou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 bold in your think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arrows, icons or other visual aids to show links between different element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on't get stuck in one area. If you dry up in one area go to another branch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Put ideas down as they occur, wherever they fit. Don't judge or hold back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reak boundaries. If you run out of space, don't start a new sheet; paste more paper onto the map. (Break the 8x11 mentality.)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e creative. Creativity aids memor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et involved. Have fu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47680" y="343080"/>
            <a:ext cx="864864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763416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valu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447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ittle down the ideas generated to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8-10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good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valuate these ideas generated and compare each solution to the design criteria,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refining and modifying as requ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o your ideas satisfy the requirement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Title 1" descr=""/>
          <p:cNvPicPr/>
          <p:nvPr/>
        </p:nvPicPr>
        <p:blipFill>
          <a:blip r:embed="rId2"/>
          <a:stretch/>
        </p:blipFill>
        <p:spPr>
          <a:xfrm>
            <a:off x="285840" y="1365120"/>
            <a:ext cx="8334360" cy="18957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HUMBNAIL SKETCH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NCEPT DRAW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OCK UPS AND PROTOTYP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LIMINARY  PLANS FOR CLIENT  TO REVIEW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Thumbnail sketches and Prototype (artist statement)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ry and choose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three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 and develop it further, Create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3 thumbnail sketches of these desig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Get feedback from the client (or in this case the teach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On a 8x 10 sheet of Mayfair draw a proposal of your fantasy coffin with your artist statemen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Give a brief description of who your coffin is designed for, and explain why you believe the piece is a suitable representation of the person it’s intended f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Constantia"/>
              </a:rPr>
              <a:t>The solutions (e.g., by testing, modelling, and documenting results), possible revisions, and then choosing the best on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ometimes 3 ideas are presented to the client for their feedback which may result in further revision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 solution, using  one or more of the following: final drawings, technical reports, electronic presentations, flow charts, storyboards, mockups, prototypes, and so o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ommunicate  these ideas to the cli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81840" cy="190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on the final solution and repeat the design process if necessary to refine or improve the soluti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dentify the Probl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at's the purpose of the project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Information?  Entertainment?  Education? To attract attention? To create an image or identity? To  make life easier?  To beautify? To fix  a problem? To provide a servic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at are the requirements or specification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Size, colour, dimensions, budget, quantity, material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en it is required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Due dates? Cost restraints? Material constraints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o is the target audience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Students?  General Public?  Parents?  Staff?  Age?  Male/Female?  Income? Level? Where do they liv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Why is it necessa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CA" sz="1700" spc="-1" strike="noStrike">
                <a:solidFill>
                  <a:srgbClr val="000000"/>
                </a:solidFill>
                <a:latin typeface="Constantia"/>
              </a:rPr>
              <a:t>Innovation? Upgrade? Variety?  For a mark in this course?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5335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Define the problem, be specific. Try to capture it in one ques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ather Inform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Talk to your client</a:t>
            </a:r>
            <a:r>
              <a:rPr b="0" lang="en-CA" sz="2600" spc="-1" strike="noStrike">
                <a:solidFill>
                  <a:srgbClr val="ff0000"/>
                </a:solidFill>
                <a:latin typeface="Constantia"/>
              </a:rPr>
              <a:t>(in this case it may be yourself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Use information from researches that have gone before you. Do not copy but be inspired by other work done before yo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Gather reference material, models, samples and examp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Keep a file of inspirational mater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Record </a:t>
            </a:r>
            <a:r>
              <a:rPr b="1" lang="en-CA" sz="2600" spc="-1" strike="noStrike">
                <a:solidFill>
                  <a:srgbClr val="000000"/>
                </a:solidFill>
                <a:latin typeface="Constantia"/>
              </a:rPr>
              <a:t>inform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000000"/>
                </a:solidFill>
                <a:latin typeface="Constantia"/>
              </a:rPr>
              <a:t>Establish a plan of procedures, look into the "state of the art" by examining other solutions on the web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Title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DEA GENERA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rainstor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295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Create a list of lead questions (Use the 5 w’s + H again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Lists of as many solutions as possible,  </a:t>
            </a: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quantity is desi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Be spontaneous,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do not edit your self, record your idea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Withhold criticism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by suspending judgement, participants will feel free to generate unusual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Let your ideas lead you to other areas focus on extending or adding ideas, build on your id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Welcome unusual ideas,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 wilder idea the bet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0000"/>
                </a:solidFill>
                <a:latin typeface="Constantia"/>
              </a:rPr>
              <a:t>Combine and improve ideas- </a:t>
            </a: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ood ideas may be combined to form a single better good idea 1+1=3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Use mind maps          Sketch on pap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Group brainstorming generates a large number of ideas for a solution of a problem </a:t>
            </a:r>
            <a:r>
              <a:rPr b="0" lang="en-CA" sz="1100" spc="-1" strike="noStrike">
                <a:solidFill>
                  <a:srgbClr val="000000"/>
                </a:solidFill>
                <a:latin typeface="Constantia"/>
              </a:rPr>
              <a:t>(developed in1930by Alex Osborn in Applied Imagination)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2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81080" y="757080"/>
            <a:ext cx="6981840" cy="534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ind maps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(developed by Tony Buzan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800240" y="1920960"/>
            <a:ext cx="38862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mind ma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is a diagram used to represent words, ideas, tasks, or other items linked to and arranged radially around a central key word or idea. Mind maps are used to generate, visualize, structure, and classify ideas, and as an aid in study, organization, problem solving, decision making, and writ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0" name="Picture 2" descr="300px-Guru_Mindma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7760" y="2743200"/>
            <a:ext cx="4875120" cy="3429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7"/>
          <p:cNvSpPr/>
          <p:nvPr/>
        </p:nvSpPr>
        <p:spPr>
          <a:xfrm>
            <a:off x="251640" y="1905120"/>
            <a:ext cx="406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s another way of creat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dividual brainstor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419360" y="609480"/>
            <a:ext cx="47242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Structured graphic representation of words and ideas produced by brainstorm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A person starts in the middle of the page with the main idea, and works out in all directions, producing a growing and organized web like structure composed of key words and imag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Each idea becomes a centre of a new web map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onstantia"/>
              </a:rPr>
              <a:t>The mapping allows you to write down your ideas quicker than expressing them in words or phrases. Once the words and ideas flow there is a need to cluster or group th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50540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00:40:04Z</dcterms:created>
  <dc:creator>shayna</dc:creator>
  <dc:description/>
  <dc:language>en-US</dc:language>
  <cp:lastModifiedBy>OCDSB User</cp:lastModifiedBy>
  <dcterms:modified xsi:type="dcterms:W3CDTF">2011-09-26T14:28:35Z</dcterms:modified>
  <cp:revision>32</cp:revision>
  <dc:subject/>
  <dc:title>DESIGN PROCESS</dc:title>
</cp:coreProperties>
</file>